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260-7787-4E66-935A-AEFE8000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653-8F24-416B-842D-D9F3732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8B2-FFDF-4B85-BB22-008472E0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A87-1CDE-49B9-B659-7932D0FF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525-AB75-4CD6-9D84-7994057F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311-E5B7-4D42-8F05-45FAA308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76B-A78B-4A0D-BF02-60758BBB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9C9-5860-4615-BCE1-373B8418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A41-2E9E-4D24-981B-BDC0CF6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A02-18A1-4EC5-A7A7-FF83C783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B65-3424-4805-93B0-CD901857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692-E4CC-46FE-B06A-CCAA53D5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36F0-EAAD-4A07-98A2-F450C02381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11-01T07:35:50Z</dcterms:modified>
  <cp:revision>810</cp:revision>
  <dc:subject/>
  <dc:title>Free PPT Backgrounds</dc:title>
</cp:coreProperties>
</file>